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1966-DD53-47FD-A1BD-91ED0FB9EB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1D81-3074-4507-8936-2888AB0695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D5D4-8031-4AFC-A660-8496479BFC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BA39-93D0-4E8A-A67A-E6238DE4B4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4C9D-F2AC-4647-BF6B-6DCDCEC063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2BC9-71DC-4099-A859-E35CB5792F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5376-4CF3-46B4-8BEB-3B142F752F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D830-DCBE-4537-B82B-EFBF596FDB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2910-C3BA-44C3-9B0C-15C35CCD90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44F5-D05F-409A-A48A-1F07742691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B3FA-C31A-4A69-A09D-3C71C97760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6C63-5866-45AB-A77F-44788138CC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578C-9B99-4081-9DF6-285070C75C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F385-99AE-4DA0-8934-9A71493AF6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9815-8EC3-4C2C-B845-393EBCD738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57D6-C487-4037-A5CD-E61EA34C80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11FB-2948-445D-9384-8D369A1D59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A257-F9CD-4DA7-AAA6-D287339BC4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16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AFF2-5269-4059-BF7A-EF3C0521C1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D555-7070-415A-BC31-1DA839A2DC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05D9-1B77-49AB-B08A-66A3B2849C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106E-3F64-4557-8852-0FE115AB9D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F54B-32EE-461F-8226-C21780B5FA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02DA-52A4-4FA4-B439-DD5430EC7B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5504-8048-48C4-972B-C4065662E4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4BDD-AA03-4873-BC41-2A9F87702C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27D3-CE8C-461C-9305-15F56E3CF1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2B45-5F6A-486C-8C13-F176EA4951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800"/>
            </a:b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3FA1-218A-42C2-A035-8094330B57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521A-F5F8-461E-B7F2-5CA1870F51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6EC-F300-48D5-897E-6360F2D3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598-60DE-48A9-9F12-4583E2D7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CA45-8BAE-4ACB-86CC-38469DFB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494-A4A3-466B-8885-2E2E3020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1A7-8CB0-43EA-9505-1743C3A4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0A6-9B34-4185-AE90-A436C1F2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E66-46E6-40A4-9550-8807E9AD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AD5-EBDE-4882-B5EE-9E0520B6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BEC-CDAD-43DF-A1AF-07908EAD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2C8-00BE-4D3C-877C-9B4B2CD1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FCD-3B57-43C5-A8B0-B776BA61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BA7-1908-480A-808A-8DE5F3FE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A5C3-4284-4841-A939-89037E7C43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248760"/>
            <a:ext cx="364320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071960" y="357120"/>
            <a:ext cx="481968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5365440" y="6072120"/>
            <a:ext cx="25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Художник М. Решетн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021_V.S.O. - With You I'm Born Again.mp3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96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00680" y="6215040"/>
            <a:ext cx="47145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4200" y="785520"/>
            <a:ext cx="35006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10876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57400" y="5929200"/>
            <a:ext cx="50720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840" y="285840"/>
            <a:ext cx="36435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000680" y="285840"/>
            <a:ext cx="493380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00720" y="1213920"/>
            <a:ext cx="4643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4324320" cy="4357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8760" y="5500440"/>
            <a:ext cx="36435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840" y="642600"/>
            <a:ext cx="4429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857840" y="714240"/>
            <a:ext cx="3990960" cy="4762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5214960" cy="5214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13880" y="5643720"/>
            <a:ext cx="7572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684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1640" y="6071760"/>
            <a:ext cx="414324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285480"/>
            <a:ext cx="4143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398772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85840" y="6000840"/>
            <a:ext cx="3714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43844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285840" y="642960"/>
            <a:ext cx="4071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раз ты слышала признанье: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Не стою я любви твоей".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скай мое она созда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 как я беден перед ней… Перед любовию тво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 больно вспомнить о себ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ою, молчу, благогов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оклоняюся тебе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гда, порой, так умиленно,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такою верой и мольбой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вольно клонишь ты колено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колыбелью дорог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спит она - твое рожде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й безымянный херувим,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йми ж и ты мое смиренье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сердцем любящим твои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6160" y="6214680"/>
            <a:ext cx="4500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6760" y="500040"/>
            <a:ext cx="37148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214880" y="285840"/>
            <a:ext cx="455616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2920" y="357120"/>
            <a:ext cx="464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00760" y="571680"/>
            <a:ext cx="385740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57800" y="5214600"/>
            <a:ext cx="40003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719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786120" y="1214280"/>
            <a:ext cx="5111640" cy="3808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500040"/>
            <a:ext cx="83296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00680" y="6143760"/>
            <a:ext cx="47145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4200" y="142920"/>
            <a:ext cx="3786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071960" y="285840"/>
            <a:ext cx="485784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00440" y="47145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572080" y="514440"/>
            <a:ext cx="3214800" cy="4265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13840" y="285840"/>
            <a:ext cx="535788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85840"/>
            <a:ext cx="4038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24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643280" y="500040"/>
            <a:ext cx="428652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285480"/>
            <a:ext cx="36860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500360" cy="6143760"/>
          </a:xfrm>
          <a:prstGeom prst="rect">
            <a:avLst/>
          </a:prstGeom>
          <a:ln w="0">
            <a:noFill/>
          </a:ln>
        </p:spPr>
      </p:pic>
      <p:pic>
        <p:nvPicPr>
          <p:cNvPr id="111" name="kb_romans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884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4200" y="1214280"/>
            <a:ext cx="38577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200480" y="357120"/>
            <a:ext cx="4756320" cy="5500800"/>
          </a:xfrm>
          <a:prstGeom prst="rect">
            <a:avLst/>
          </a:prstGeom>
          <a:ln w="0">
            <a:noFill/>
          </a:ln>
        </p:spPr>
      </p:pic>
      <p:pic>
        <p:nvPicPr>
          <p:cNvPr id="114" name="025_Dinu Radu - Einsame Hirte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731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3889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6920" y="4941720"/>
            <a:ext cx="46083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SL375905"/>
          <p:cNvPicPr/>
          <p:nvPr/>
        </p:nvPicPr>
        <p:blipFill>
          <a:blip r:embed="rId1"/>
          <a:stretch/>
        </p:blipFill>
        <p:spPr>
          <a:xfrm>
            <a:off x="1116000" y="1700280"/>
            <a:ext cx="2160720" cy="41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_2306"/>
          <p:cNvPicPr/>
          <p:nvPr/>
        </p:nvPicPr>
        <p:blipFill>
          <a:blip r:embed="rId2"/>
          <a:stretch/>
        </p:blipFill>
        <p:spPr>
          <a:xfrm>
            <a:off x="5867280" y="333360"/>
            <a:ext cx="218124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57800" y="6143400"/>
            <a:ext cx="45720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006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214880" y="214200"/>
            <a:ext cx="464184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47960" y="213840"/>
            <a:ext cx="4352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4038840" cy="50594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8"/>
          <p:cNvSpPr/>
          <p:nvPr/>
        </p:nvSpPr>
        <p:spPr>
          <a:xfrm>
            <a:off x="285840" y="592920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48320" y="285840"/>
            <a:ext cx="42098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368928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214200" y="55008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42920" y="6072120"/>
            <a:ext cx="3929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643280" y="142920"/>
            <a:ext cx="4013280" cy="5853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840" y="785520"/>
            <a:ext cx="4357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14960" y="6072120"/>
            <a:ext cx="32860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840" y="214200"/>
            <a:ext cx="4429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857840" y="357120"/>
            <a:ext cx="3781440" cy="5591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8:18:47Z</dcterms:created>
  <dc:creator>Илья</dc:creator>
  <dc:description>rusedu.ru</dc:description>
  <dc:language>en-US</dc:language>
  <cp:lastModifiedBy>LEGION</cp:lastModifiedBy>
  <dcterms:modified xsi:type="dcterms:W3CDTF">2015-01-20T08:19:02Z</dcterms:modified>
  <cp:revision>155</cp:revision>
  <dc:subject/>
  <dc:title>Биография Тютчева</dc:title>
</cp:coreProperties>
</file>